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5C7-92F8-409C-828A-C43E67AF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B36C-D7C8-4F72-AEB7-5AE3BBA8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EC5-25FB-4C0C-84CD-ACA50855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6EF-FA02-4333-A2C7-E9D907F2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45E1-46B3-475A-9189-C768ABFC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F73-C059-48B0-AC7C-45BC7D0C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56C-1277-44DA-87D0-E554DEB6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B363-73E7-4C60-9C67-DEEECB9F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043-9722-48B1-82A7-24475AC0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4733-1CE6-4B12-991E-27AEA700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2C3A-D56E-4012-8E2A-466D0E61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7E7-2733-4E50-A2AB-7ECD32B2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4A6DA-E80F-4017-B008-00B85FDC42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74D1C5-EF77-4E44-A898-333CBF227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mplest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 El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ter made up of only one kind of a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Gold Bar.jpg"/>
          <p:cNvPicPr/>
          <p:nvPr/>
        </p:nvPicPr>
        <p:blipFill>
          <a:blip r:embed="rId1"/>
          <a:stretch/>
        </p:blipFill>
        <p:spPr>
          <a:xfrm>
            <a:off x="2577960" y="3065400"/>
            <a:ext cx="3988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lassification system do most libraries use to organize their book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wey Decimal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Dewey Decimal System.jpg"/>
          <p:cNvPicPr/>
          <p:nvPr/>
        </p:nvPicPr>
        <p:blipFill>
          <a:blip r:embed="rId1"/>
          <a:stretch/>
        </p:blipFill>
        <p:spPr>
          <a:xfrm>
            <a:off x="1849320" y="3265560"/>
            <a:ext cx="54342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iodic Table of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ganizes the elements by their properti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ws are called Peri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ments in a row have the same number of energy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umns are called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ments in a group have similar properties related to their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y also form similar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2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2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Au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2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Ag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2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number is the atomic numb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that number tell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tells you the number of protons in the nucleus of each atom of that el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Atom of Hydrogen, for example has 1 a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ot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 all hydrogen atoms have 1 proton in its nucleu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 all Hydrogen atoms have the same amount of neutrons in their nucleu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, some Hydrogen atoms may have more neutrons than other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otope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oms of the same element that have different numbers of neutr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4:57:58Z</dcterms:created>
  <dc:creator>Cleophis Carson</dc:creator>
  <dc:description/>
  <dc:language>en-US</dc:language>
  <cp:lastModifiedBy>Cleophis Carson</cp:lastModifiedBy>
  <dcterms:modified xsi:type="dcterms:W3CDTF">2011-09-09T16:33:30Z</dcterms:modified>
  <cp:revision>1</cp:revision>
  <dc:subject/>
  <dc:title>The Simplest Matter</dc:title>
</cp:coreProperties>
</file>